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Jingle%20Bell%20Rock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D1E-6E46-448F-BDFD-CB900709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1D9-8B5F-4126-893E-50ADF846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1AE-A55F-4542-869F-044C8E18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703-49B9-4E23-B192-7CF3D362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639E-2931-4787-B1C4-67A72DB5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6FC9-9E20-4083-9544-B461C1BD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CD0B-3F06-474D-95DE-6DD1C5EA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4AC2-E4A7-4C27-ACB2-1E43594E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584A-7B48-4278-B431-1FAAD0E0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DA61-5527-46B0-99A7-4F320674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9DFC-DB8A-48F9-B091-C2B339E6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730-78F2-4EBD-8AB2-4380D89E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666F-20DD-4C0C-A18C-3CD4F54D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5926-21B9-45AA-B1B1-1AC097AB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7298-052D-4219-8304-06AEDEA1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70F3-2465-499D-B125-C436B899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2631-CEB8-4A11-ADFC-CF9C71C1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4066-8D2F-4633-9790-0373809B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906-1D2F-48C3-A946-5FD0841F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E67-2E6C-41D0-B62B-2A0A7EEB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E61-8052-45D0-935C-B4C413E1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B7D-9D48-4FE5-BE5D-2E38A492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40E-7AD5-4B48-98CB-2904EA31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99C-EFAA-4A9E-850B-4B043A3B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1A77-142F-48DF-B84E-9B45D36F4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9C11-0620-4C22-A294-E979087F8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Jingle%20Bell%20Rock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654280" y="900000"/>
            <a:ext cx="4254480" cy="8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ingle Bell Ro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869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Ángela, Andrea R, Javier, Miri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  <p:sndAc>
      <p:stSnd>
        <p:snd r:embed="rId2" name="Jingle%20Bell%20Ro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640" y="476280"/>
            <a:ext cx="3456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Jingle bell, jingle 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Jingle bell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Jingle bel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nd jingle bells 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96360" y="69228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0" y="530532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nowing and b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Up bushels of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w the jingle hop has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26028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ingle bell, jingle 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ingle bell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ingle bells chim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ingle bell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00720" y="2565360"/>
            <a:ext cx="338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ancing and pr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n jingle bell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n the frosty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33847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a bright tim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t's the right tim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0" y="764640"/>
            <a:ext cx="38991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 rock the night away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Jingle bell, tim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s a swell tim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 go glidin' in a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ne horse sleig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40320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ddy-up, jingle hors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ck up your fee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ngle around the cloc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8000" y="333360"/>
            <a:ext cx="3995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ix and mingl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 a jinglin' beat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at's the jingle bell roc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5:37:17Z</dcterms:created>
  <dc:creator>pc10</dc:creator>
  <dc:description/>
  <dc:language>en-US</dc:language>
  <cp:lastModifiedBy>pc10</cp:lastModifiedBy>
  <dcterms:modified xsi:type="dcterms:W3CDTF">2011-12-21T10:17:27Z</dcterms:modified>
  <cp:revision>4</cp:revision>
  <dc:subject/>
  <dc:title>Diapositiva 1</dc:title>
</cp:coreProperties>
</file>